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9226-9F7C-43EC-951F-16174E8B8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7DA1-A47D-4EDA-B91A-DC1684DC226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6F50A-1FFC-4CC1-AD82-EE2730CE1AC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0B26-0AF9-4B26-B442-E7B1C6FC3AC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E2F9-98B1-475D-8FE9-315C3D13412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98CB-E813-456C-B5EC-FEC4FC205C8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8C7B-3661-4D36-8619-74B680666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77A4-4867-4EBE-8582-D10F1C1B0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040" y="5791320"/>
            <a:ext cx="264636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8141-F32D-4D15-ABE1-1533D068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A89-0D2D-4FFE-9EE4-772E1823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0F8-604E-4379-9A61-72021D64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C78-CAF8-4CF2-B6CE-41998D59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7A72-8476-45C2-B394-AEE10EB3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D929-9B1C-4175-BD7E-7416EE93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B7C8-1BBD-424F-943C-7278934C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847C-96E5-4F87-85D7-2254F60D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4612-7A82-41AA-B12B-FAD93FD0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49B3-51A9-4F21-9AB2-8290DFF5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AC8E-F991-45F8-AF49-EE782342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BE4-8047-4846-8CFF-8181DD79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ED61-4B88-46F2-96B9-8BFDB8B0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7F05-F448-48FA-A48E-C88B86FE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26B0-54DC-4F85-A12D-F4C85BC1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A177-2240-4BCA-A229-6E81BA1B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18D0-11B2-481D-8512-9B1CC4E1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642CF-2E4D-477F-B1E0-88CA6F82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88911-54B2-4292-8F7B-5FC3D40B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A0F7C-5D8E-44A4-B536-64A72AB0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5997B-77C2-447F-B27F-826F6279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E2224-2E41-42DC-979D-6FF9864A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85AF-8F56-41C8-A319-865EED43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C324B-793F-4DAE-B672-B216DC34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858CB-1323-4156-8359-B8AA8151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9184D-A03D-4755-8462-F5B023C1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D0B6D-9EF2-444D-BFDA-F91CE62D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51094-77F2-4F18-92E4-42D44BDD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BA6026-1105-4B63-A588-6ACAAB37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5A1D7-2EC3-4E50-AE2D-5AB403BB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B4037-7A13-4AFD-9510-DE263755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B3E1E-0E4B-441E-BB20-FD7BD8B8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9BFBF-AAA5-497B-8AB4-BE4922A1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DE38-D54B-46CA-BED4-215AFE73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1EA04-169E-49D1-8DF9-356F08EA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E539C-0D66-4C68-9E22-B080A379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9E502-F762-41C1-A0DB-B7F53A9B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CF71C-A530-4873-8192-FC1CEE8C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F8EF4-0844-4177-958F-CBB24546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A1D81-9B25-40A4-B401-3DC8975C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72534-AC25-474E-B689-59AD6383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0D527-0EDE-4A9E-BCA4-8E4A31B3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192BC-27CE-4EE2-B452-E77FC1CE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98DE3-6B44-46BD-84F0-EBACC7BB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F79-0EFD-47D0-BF8A-FB5683EF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BC3C2F-E316-4C93-B343-20FF9925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75391F-7C2B-442F-B753-AC3955CE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EDE0F-51DC-4C82-A9EA-AA465A7B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2525DC-0E3C-438F-A2DF-CEABBAE1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6E0403-0212-4137-A00D-011F0D7E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9D5814-1D78-4367-BCEF-4C2EFE7F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7E8BF-47A4-4388-86CB-370D927E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F6521-E2AC-4A50-BCC4-87CD9DAE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735FC9-10BB-41A3-A55A-32997F81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90A4B-15C1-4F00-BEAB-D1D0BA61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76E2-F68F-4585-ACF9-7984076E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072EA-800A-424C-8B0F-69D47131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61D84F-C308-4F86-A2E1-A0DB1A17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2AEE13-FAEC-4F10-AAAE-801ED45F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23CB4D-A3C4-43D6-B76B-BC7C2F94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73CE6C-2301-453F-90D1-4E61BFA6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D9FCE7-5059-4DCA-A19F-1BAE800E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EFDED8-B5EA-4125-9074-2EACD1A1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88FD63-64AE-40CD-8438-20C136F4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908B9-FD36-45AA-A3BD-4EDB0B30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9FE25-0CA6-4C8D-8776-6FA55B72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7AB-9340-4CA3-9A06-6D1E25AB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6C0A5D-71DC-4F1A-A0FA-347F462D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A89BB4-D4AB-461C-8008-177E43A1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F3396-A0A8-4589-974E-5BFB8502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ACA649-91D9-4BB2-9CC1-3B0DF39C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964DF-A537-4554-A030-722A3BB5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739D5F-C732-4FC6-B0BE-F226E765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FC75F8-5805-4415-9B73-70774826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96ECA6-4500-4E25-A568-A88156CF0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FDE704-B88A-4561-9CA5-E0D0AB89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C4CDCA-D571-452D-B959-CA102D96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023-DE10-44F1-8013-8E9DC391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5F51B7-FE64-4AC0-B341-DB9152E4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48CBC3-7451-458D-890C-DBAA62D0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7F4A2D-A279-45A1-AE6E-267A1000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2B8A5-82F9-47D8-83B9-E6C4D5AC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B9F50A-929E-45B2-9A85-6B4C067E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EE9-04CD-4B0A-9FD4-F6FD3AAA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3E71-E6C7-4548-89A9-27506856B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1BB3-7E56-4DC3-A802-C78CC5E28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AB7C-DB8E-41A2-A8E9-AF3A99A61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A5F7-04A3-4B46-B8BE-ADB808B7A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3036-E7D9-4AB7-AD57-D60CD2A682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7054-981F-4786-A386-EB4F86C2B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09A0-E11F-492A-8BD5-50B001848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СС: ГЕРИЈАТРИЈА СА НЕГОМ</a:t>
            </a:r>
            <a:br>
              <a:rPr sz="1800"/>
            </a:b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АСТАВНА ЈЕДИНИЦА </a:t>
            </a:r>
            <a:r>
              <a:rPr b="1" lang="sr-Latn-RS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БОЛЕСТИ ШТИТАСТЕ ЖЛЕЗДЕ (ХИПЕРТИРЕОЗА И ХИПОТИРЕОЗА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ИТИСИ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1523880" y="43430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олета Младеновић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TRUMA NODOSA 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68544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суство локализованог увећања ткива штитасте жлезде обично праћена еуметаболизмом (ређе хипер- или хипометаболизам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% популације, чешће код жена, инциденца расте са годинама старости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Асимптоматск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вни ефекти на трахеју, нерве ларинкса, једњак, вене врат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глед (инспекција и палпациј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, ређе НМР или ЦТ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цинтиграфија штитасте жлезд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НАБ (аспирациона биопсија танком иглом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4" descr="F:\slike predavanja\imagesED9P5D33.jpg"/>
          <p:cNvPicPr/>
          <p:nvPr/>
        </p:nvPicPr>
        <p:blipFill>
          <a:blip r:embed="rId1"/>
          <a:stretch/>
        </p:blipFill>
        <p:spPr>
          <a:xfrm>
            <a:off x="6629400" y="5094360"/>
            <a:ext cx="2352600" cy="16495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F:\slike predavanja\images2MVGEXBV.jpg"/>
          <p:cNvPicPr/>
          <p:nvPr/>
        </p:nvPicPr>
        <p:blipFill>
          <a:blip r:embed="rId2"/>
          <a:stretch/>
        </p:blipFill>
        <p:spPr>
          <a:xfrm>
            <a:off x="2133720" y="5094360"/>
            <a:ext cx="2124000" cy="16556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F:\slike predavanja\imagesRQ8M0MLF.jpg"/>
          <p:cNvPicPr/>
          <p:nvPr/>
        </p:nvPicPr>
        <p:blipFill>
          <a:blip r:embed="rId3"/>
          <a:stretch/>
        </p:blipFill>
        <p:spPr>
          <a:xfrm>
            <a:off x="4419720" y="509112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TRUMA NODOSA (uninodosa, pol</a:t>
            </a:r>
            <a:r>
              <a:rPr b="1" i="1" lang="sr-RS" sz="3200" spc="-1" strike="noStrike">
                <a:solidFill>
                  <a:srgbClr val="ff0000"/>
                </a:solidFill>
                <a:latin typeface="Arial"/>
                <a:ea typeface="Arial"/>
              </a:rPr>
              <a:t>i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odosa)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28240" y="13712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оцена малигног потенцијала ноду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на Лев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оксина у циљу редукције концентрације ТСХ (не препарата јода јер може довести до Јод-Баседо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љевог ефект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мена радиоактивног јод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руршко лечењ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3" name="Picture 4" descr="F:\slike predavanja\7.png"/>
          <p:cNvPicPr/>
          <p:nvPr/>
        </p:nvPicPr>
        <p:blipFill>
          <a:blip r:embed="rId1"/>
          <a:stretch/>
        </p:blipFill>
        <p:spPr>
          <a:xfrm>
            <a:off x="7010280" y="4495680"/>
            <a:ext cx="1895760" cy="2168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F:\slike predavanja\images2DV910QX.jpg"/>
          <p:cNvPicPr/>
          <p:nvPr/>
        </p:nvPicPr>
        <p:blipFill>
          <a:blip r:embed="rId2"/>
          <a:stretch/>
        </p:blipFill>
        <p:spPr>
          <a:xfrm>
            <a:off x="4724280" y="4495680"/>
            <a:ext cx="2133720" cy="22050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F:\slike predavanja\imagesBN1FVANN.jpg"/>
          <p:cNvPicPr/>
          <p:nvPr/>
        </p:nvPicPr>
        <p:blipFill>
          <a:blip r:embed="rId3"/>
          <a:stretch/>
        </p:blipFill>
        <p:spPr>
          <a:xfrm>
            <a:off x="2743200" y="4495680"/>
            <a:ext cx="18288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ХИПЕРФУНКЦИЈА ШТИТАСТЕ ЖЛЕЗД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тиреоидиза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клиничко с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т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не концентрације тироидних хормона у крви настало због њихове повећане продукције у штитастој жлезди 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аћено њиховом повећаном активношћу у периферним ткивима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ри чему секреција тироидних хормона више није под регулаторном контролом хипоталамо-хипофизног систем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ЕПИДЕМИОЛОГИЈ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д хипертиреодизма обољева око 0,5% популациј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a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е најчешћи узрок хипертиреодиз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-80%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пације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шће обољевају од мушкараца (одно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:1.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ик инциденције у старосној доби о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-4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г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асна расподела: слична инциденција међу белцима и азијатима, док је нижа међу афроамериканцим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5248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ff0000"/>
                </a:solidFill>
                <a:latin typeface="Arial"/>
                <a:ea typeface="Arial"/>
              </a:rPr>
              <a:t>ХИПЕРМЕТАБОЛИЧКО/ХИПЕРАДРЕНЕРГИЧКО КЛИНИЧКО СТАЊЕ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физиолошким услови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2227320" indent="-182520" algn="just">
              <a:lnSpc>
                <a:spcPct val="7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акон узимања хран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2227320" indent="-182520" algn="just">
              <a:lnSpc>
                <a:spcPct val="7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промене климатских услов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2227320" indent="-182520" algn="just">
              <a:lnSpc>
                <a:spcPct val="7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узраст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2227320" indent="-182520" algn="just">
              <a:lnSpc>
                <a:spcPct val="7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 трудноћ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2227320" indent="-182520" algn="just">
              <a:lnSpc>
                <a:spcPct val="7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физичке активност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2227320" indent="-182520" algn="just">
              <a:lnSpc>
                <a:spcPct val="7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замору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2227320" indent="-182520" algn="just">
              <a:lnSpc>
                <a:spcPct val="7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дејства ендокриних фактора 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2227320" indent="-182520" algn="just">
              <a:lnSpc>
                <a:spcPct val="7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услед активације симпатикус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50796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азалног метаболизма у патолошким условим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2227320" indent="-182520" algn="just">
              <a:lnSpc>
                <a:spcPct val="7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еотоксикоз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2227320" indent="-182520" algn="just">
              <a:lnSpc>
                <a:spcPct val="7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зниц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2227320" indent="-182520" algn="just">
              <a:lnSpc>
                <a:spcPct val="7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феохромоцитом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2227320" indent="-182520" algn="just">
              <a:lnSpc>
                <a:spcPct val="7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очетна фаза хипотермиј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2227320" indent="-182520" algn="just">
              <a:lnSpc>
                <a:spcPct val="7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умор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2227320" indent="-182520" algn="just">
              <a:lnSpc>
                <a:spcPct val="7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дијабетесна кетоацидоз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2227320" indent="-182520" algn="just">
              <a:lnSpc>
                <a:spcPct val="7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рчана инсуфицијенциј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ИРЕО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ТО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КСИКОЗА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61048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620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тање повећане концентрације тироидних хормона у крви због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овећане продукције у штитастој жлезди или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ња након разарања штитасте жлезде или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-26460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јатрогено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ХИПЕРТИРЕОЗ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тање повећане концентрације тироидних хормона у крви због њихове повећане продукције у штитастој жлезд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202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ОСЛЕДИЦЕ ТИРЕОТОКСИКОЗ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ораст базалног метаболизма (катаболизам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топлот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упркос добром апетиту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Субфебрилност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в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за, несаница, раздражљивост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ораст броја адренергичких рецептора (повећана осетљивост на катехоламине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ахикардиј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Презнојавањ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Дивергентна артеријска хипертензиј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Тремор екстремитет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КОЖА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 И ОЧ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опл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а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ритематозна (због повећаног протока крви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ека, сомотас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Влажна (неподношење топлоте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н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хол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ис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меки и лако ломљиви нокти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анка кос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кочен поглед, израз “зурења” и немогућност затварања очних капак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Знаци тироидне орбитопатије (у М. Гравес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гз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алм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проптоза очних јабучица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нфлам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ција и задебљање екстраокуларних мишића, орбиталног масног и везивног ткива (чешће код пушача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функција екстраокуларних мишић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плоп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а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Периорбитал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и и коњунктивалн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едем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сећај “песка у очима”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КВС И РС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а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кард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ол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аст потре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 кисеоником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јални поремећаји ритм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ЛК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кардиомиопат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испнеја у миру и у напор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п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абост респираторних мишић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капацитет физичке издржљивост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пструкција трахеј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гзацербација бронхијалне астм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500"/>
            </a:br>
            <a:br>
              <a:rPr sz="2500"/>
            </a:b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ГИТ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(због повећане калоригенезе) уз непромењен или појачан апети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деф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ац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ор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еаторе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а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ор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г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ЕНДОКРИНОГ СИСТЕМ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727200" y="1454040"/>
            <a:ext cx="3260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РЕМЕЋАЈИ МОРФОЛОГИЈ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209600" y="4952880"/>
            <a:ext cx="3667320" cy="178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генез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Ектоп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троф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ипотрофиј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1185840" y="4400640"/>
            <a:ext cx="3691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еизмењена морфолог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198440" y="2590920"/>
            <a:ext cx="3678480" cy="16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ипертоф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иперплаз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еоплазија (бенигна или малигна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5124600" y="1476360"/>
            <a:ext cx="32605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РЕМЕЋАЈИ        ФУНКЦИЈ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5748480" y="281304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иперфунк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5789520" y="435276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ормофунк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5869080" y="5619600"/>
            <a:ext cx="252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ипофункциј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847800" y="2103480"/>
            <a:ext cx="0" cy="375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5340240" y="2143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825480" y="338292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>
            <a:off x="836640" y="4572000"/>
            <a:ext cx="352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846000" y="5850000"/>
            <a:ext cx="3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5332320" y="2986200"/>
            <a:ext cx="38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5343480" y="457200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18"/>
          <p:cNvSpPr/>
          <p:nvPr/>
        </p:nvSpPr>
        <p:spPr>
          <a:xfrm>
            <a:off x="5332320" y="5783400"/>
            <a:ext cx="528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УРОГЕНИТАЛНИ СИСТЕ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Жене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лигоменоре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меноре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новулат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инфертили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ушкарц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necomast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ибид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Еректилна дисфункц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ен спермогр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СЛИКА: СКЕЛЕТНИ И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2600" spc="-1" strike="noStrike">
                <a:solidFill>
                  <a:srgbClr val="ff0000"/>
                </a:solidFill>
                <a:latin typeface="Arial"/>
                <a:ea typeface="Arial"/>
              </a:rPr>
              <a:t>НЕУРОМУСКУЛАРНИ СИСТЕМ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br>
              <a:rPr sz="2300"/>
            </a:b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теопор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и патолошке фрактур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мо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испружене руке и језик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апсорпција костиј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рефлексија (тетивни рефлекси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сихичке промене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активност, емоционална лабилност, анксиозност, смањена концентрација, несаниц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ишићна слабост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ксимална мишићна слабост 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јената, смањена мишићна маса и снага (нормализују се тек након 6 месеци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СИМПТОМ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ер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оз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нксиозно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ачано знојењ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топлот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ремо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тивно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брзан рад срц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Мршављење уз непромењен или чак појачан апети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менструационог циклу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ЗНАЦ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3059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Х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перактивност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хиперкинез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субфебрилност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инусна тахикардија, атријалне аритмије, атријална фибрилација, срчана инсуфицијенциј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истолна HTA, повећан пулсни притисак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опла, влажна, “сомотаста” кож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ојачано знојење, палмарни еритем, онихолиз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оширена рима окули и израз “зурења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етерана активност симпатикус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Фини тремор испружених руку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лабост проксималних мишић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ијаре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гинекомастиј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 да ли има 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имптома и знак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хиперметаболичког клиничког стањ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егледом тиреоидеје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ровери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е карактеристике (дифузна и/или нодозна струма)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а ли има специфичних манифестација М. Гравес и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а ли има елемената за тиреоидитис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Лабораторијска дијагностик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иоху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синдром запаљења (СЕ, ККС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фиб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. и ЦРП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иреоидни статус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Морфолошка дијагностик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(ултразвук и сцинтиграфија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гијенско-дијететски режим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дукција симптом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ета-блокатори (у случају да су контраиндиковани – антагонисти калцијум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едатив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тиреоидних хормон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супресивни леков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а примена радио Ј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ЕРАПИЈ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ње секреције тиреоидних хормо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еосупресивни леков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ска примена радио Ј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адено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сична мултинодуларна стр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. Гравес (50% пацијената има ризик од погоршања орбитопатије!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Хируршка интервенција (субтотална тиреидектомиј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. Гравес који не може бити контролисан тиреосупресиви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адено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сична мултинодуларна стру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КОМПЛИКАЦИЈЕ ТЕРАПИЈЕ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-22896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оксични хепатитис (јавља се само током терапије ПТУ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гранулоцитоза (може га изазвати и ММИ и ПТУ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јважнији савет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случају развоја изненадне фебрилности и гушобоље одмах проверити КК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0000"/>
                </a:solidFill>
                <a:latin typeface="Arial"/>
                <a:ea typeface="Arial"/>
              </a:rPr>
              <a:t>ТИРЕОТОКСИЧНА КРИЗА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l-SI" sz="3000" spc="-1" strike="noStrike">
                <a:solidFill>
                  <a:srgbClr val="ff0000"/>
                </a:solidFill>
                <a:latin typeface="Arial"/>
                <a:ea typeface="Arial"/>
              </a:rPr>
              <a:t>(“ТИРЕОТОКСИЧНА ОЛУЈА”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По живот опасна егзацербација хипертиреоидизма (фебрилност, делиријум, мишићни грчеви, повраћање, дијареја, жутица, ком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лечена или непрепозната хипертиреоз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кутна болест (ЦВИ, АИМ, инфекција, траума, ДК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EРАПИЈА Т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ИРЕОТОКСИЧНЕ КРИЗ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лика доза тиреосупреси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хидратац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парати ј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ета блокатор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ртикостероид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ОИДНА ЖЛЕЗД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мештена испод и испред ларинкс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ма два лобуса повезаних истмусом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ои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ф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ику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в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ироидне хормон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ин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тетр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до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нин (Т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Тр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одот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ронин (Т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ба повећавају интезите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стимулишу синтезу протеина, повећавају употребу гликозе и масних киселина за продукцију АТП-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фо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улар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лцитони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мањ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Ц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 крви тако што инхибира реапсорпцију костиј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4" descr="F:\slike predavanja\1.png"/>
          <p:cNvPicPr/>
          <p:nvPr/>
        </p:nvPicPr>
        <p:blipFill>
          <a:blip r:embed="rId1"/>
          <a:stretch/>
        </p:blipFill>
        <p:spPr>
          <a:xfrm>
            <a:off x="6858000" y="457200"/>
            <a:ext cx="21686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ХИПОТИРЕОИДИЗАМ</a:t>
            </a:r>
            <a:br>
              <a:rPr sz="36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1048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ироидиза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је стање настало као последица недостатка ефеката тироидних хормона, било због њихове смањене продукције или резистенције периферних ткива на њи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Микседем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(раније синоним за хипотиреозу) данас се односи на промене коже и поткожног ткива које се виђају код пацијената са тешким обликом хипотиреоз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ЕПИДЕМИОЛОГИЈ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ДУЛТНА ПОПУЛАЦ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и манифестни обл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Око 2% жен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Око 0,1-0,2% мушкарц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бклинички обл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Око 9,5%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ОНАТУС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1 на 3500 новорођени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ЕТИОЛОШКА ПОДЕЛ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НГЕНИТАЛ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плазија, хипоплазија и ектопија штитасте жлезд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ефекти у биосинтези и/или дејству хормо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ЕЧЕ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и тиреоидитис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ежак дефицит јода у исхра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блација тиреоидеје (хируршке интервенције, радијација итд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ЕДИКАМЕНТОЗН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Јод, ПТУ, ММИ, К-перхлорат, Тиоцијанат, Литију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ПРЕЗЕНТАЦИЈ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СИМПТОМАТСКИ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(и до 80% пацијенат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ИВА ЗОНА”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потпуна клиничка слик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специфична симптоматологиј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арадокслана симптоматологија (несанаица, појачана раздражљивост, хиперактивност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ЈЕНА КЛИНИЧКА СЛИК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КЛИНИЧКА ПРЕЗЕНТАЦИЈ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ОПШТИ СИМПТОМИ И ЗНАЦ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имогрожљивос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Умор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обијање у ТМ уз смањење апети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терм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НЕРВ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И СИСТЕ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летаргиј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памћењ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пажњ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карактер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омноленциј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Церебеларна атаксиј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штећење чула слуха и уку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сихопатолошки поремећаји (параноидна или депресивна реакциј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ЕУРОМИШИЋНИ СИСТЕ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лабост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ишићни грчев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олови у зглобови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релаксација дубоких тетивних рефлек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индром карпалног тунел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ГАСТРОИНТЕСТИНАЛНИ СИСТЕМ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Мучнин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Затвор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Метеоризам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језик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Асцитес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Успорена перисталтика (микседемски мегаколон и илеус)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КАРДИОРЕСПИРАТОРНИ СИСТЕМ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Интолеранција напор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Гушење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Промуклост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Брадикардиј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Умерена хипертензиј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Перикардна ефузиј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  <a:ea typeface="Arial"/>
              </a:rPr>
              <a:t>Плеурална ефузија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РЕПРОДУКТИВНИ СИСТЕМ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 и знац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н либидо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мањена фертилност (олигоспермија, ановулациј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 менструационог цикл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(хиперменореј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Галактореј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ОЖ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имптом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ва, хладна, перутава кож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Надутост лиц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Губитак кос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Крти нокт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Знац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ластични едеми лица, руку и подколениц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ериорбитални едем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Хладна кож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Бледо-жута кожа (анемија+хиперкаротинемиј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уве аксил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Промене кос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ДИЈАГНОЗА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Т4 и ТСХ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Маркери аутоимунског процеса (</a:t>
            </a:r>
            <a:r>
              <a:rPr b="1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нтиТ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i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О 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 штитасте жлезд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Допунска дијагностика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Анализе крви (ККС, гликемија, липидограм, биохуморални синдром некрозе миоцита, азотне материје у крви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Тестирање кардиоваскуларне функције (ЕКГ, Ртг пулмо, Ултразвучни преглед срц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ЛЕК ИЗБОР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L-thyroxi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4 - синт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чки лeвотирoксин) је лeк избора za лечeњe и примарног и секундарног (“централног“) хипoтиреоидиз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аблета се узима цела, неподељен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ек се узима ујутру, наштину, најмање 30-60 мин пре првог дневног обр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Лек се 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ма са вод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ком увођења терапије упозорити пацијента на могуће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редне ефект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палпитације, узнемиреност, поремећај столице и сна, главобо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о постизања циљних вредности, контролисат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4 и 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у интервалима на 6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8 неде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рекције дозе се врше у инкрементима од 25мцг левотирокси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КОНТРОЛА СЕКРЕЦИЈЕ ТИРЕОИДНИХ ХОРМОН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5715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ропин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ју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актор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орм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Т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Ф или ТР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 хипоталаму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р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тимул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шу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хормон (ТСХ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 аденохипофиз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69960" indent="-325440">
              <a:lnSpc>
                <a:spcPct val="10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Стања у којима је повећана потреба за синтезом АТП доводе до пораста секреције тиреоидних хормо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4" descr="F:\slike predavanja\4.jpg"/>
          <p:cNvPicPr/>
          <p:nvPr/>
        </p:nvPicPr>
        <p:blipFill>
          <a:blip r:embed="rId1"/>
          <a:stretch/>
        </p:blipFill>
        <p:spPr>
          <a:xfrm>
            <a:off x="5638680" y="2133720"/>
            <a:ext cx="2362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  <a:ea typeface="Arial"/>
              </a:rPr>
              <a:t>ТРУДНОЋА И ХИПОТИРЕОИДИЗАМ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00"/>
                </a:solidFill>
                <a:latin typeface="Arial"/>
                <a:ea typeface="Arial"/>
              </a:rPr>
              <a:t>44%</a:t>
            </a:r>
            <a:r>
              <a:rPr b="1" lang="sr-CS" sz="3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жена са хипотиреоидизмом је  престало да узима супституциону терапију након сазнања да су трудне (неке по савету здравствених професионалаца!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Жене са хипотиреоидизмом у репродуктивном периоду треба едуковати о трудноћ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Трудноћа код њих треба да буде планирана и у тренутку концепције супституција мора бити одлична (Т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H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&lt;2.5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I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, по неким ауторима 0,5-1.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IU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L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Сваки, чак и субклинички хипотиреоидизам мајке може да утиче на неурокогнитивне функције потомстваУ трудноћи се доза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i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yroxine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а повећава за 25 до 50%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0" algn="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ТИРЕОИДИТИСИ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22860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иреоидит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запаљење штитасте жлезд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 по току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Акутни: изазивачи бактерије, вируси, гљиве, радијац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бакутни: окидач запаљења вирус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и: аутоимунско запаљењ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АКУТНИ ТИРЕОИДИТИС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51920" y="13716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тко, супуративно запаљењ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Узрочници: бактерије, гљивице, радијација након примене Ј131, лекови (амиодарон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Бол, црвенило и оток у пределу штитасте жлезде, дисфагија, повишена температура и други системски знаци инфекције, позитиван биохуморални синдром запаљења, лимфаденопат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 захтева примену антибиотика и хируршки третман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QUERVAIN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: Грануломатозно запаљење штитасте жлезде изазвано вируси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мумпс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кокс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ки, инфлуен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, адено- и еховируси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Болест траје 1 до 3 месец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фаза (тиреотоксикоза): иницијално деструкција фоликула (уз ослобађање ТГ, Т3 и Т4  и пораст њихове концентрације у плазми – хипертироксинемија),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фаза опоравка уз развој транзиторне хипотиреоз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СУБАКУТНИ ТИРЕОИДИТИС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i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DE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QUERVAIN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0" y="1219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Нагло или постепено: мигрирајући бол у врату, повишена температура, системски знаци инфекције, иницијално знаци хипертироксинемије (убрзан рад срца, презнојавање, мршављење, малаксалост), затим хипотиреоз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11560" indent="-21816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зитиван биохуморални синдром запаљења (СЕ, ЦРП, фибриноген, леукоцитоз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11560" indent="-21816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ишене вредности тироидних хормона уз супримиран ТСХ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11560" indent="-21816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иска фиксација Ј131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18160" indent="-2181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Терапија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11560" indent="-21816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ировање, одмор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11560" indent="-21816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САИЛ (аспирин 500мг на 6 до 8х)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11560" indent="-21816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некад Г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(40 до 6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г код тежих облика болести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11560" indent="-21816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Бета-адренергички блокатори (за контролу симптома тиреотоксикозе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11560" indent="-21816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Левотироксин у случају пролонгиране фазе хипотиреоидизм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11560" indent="-21816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ХРОНИЧНИ (АУТОИМУНСКИ) ТИРЕОИДИТИС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: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имунско, орган-специфично запаљење штитасте жлезд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 чест поремећај (аутопсијски налаз 20-40% еутироидних пацијената), 4-10 пута чешћи код же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77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13712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Бенигн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3600" indent="-2318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оликуларни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3600" indent="-2318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Малигн</a:t>
            </a:r>
            <a:r>
              <a:rPr b="1" lang="sr-Latn-CS" sz="2400" spc="-1" strike="noStrike">
                <a:solidFill>
                  <a:srgbClr val="ff3300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598d9"/>
                </a:solidFill>
                <a:latin typeface="Arial"/>
                <a:ea typeface="Arial"/>
              </a:rPr>
              <a:t>Порекла фоликуларних ћел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3600" indent="-2318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пил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3600" indent="-2318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ол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л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3600" indent="-2318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Лоше диферентов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3600" indent="-2318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диферентовани Ца (анапластични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598d9"/>
                </a:solidFill>
                <a:latin typeface="Arial"/>
                <a:ea typeface="Arial"/>
              </a:rPr>
              <a:t>Порекла Ц-ћел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3600" indent="-2318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дула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Ц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598d9"/>
                </a:solidFill>
                <a:latin typeface="Arial"/>
                <a:ea typeface="Arial"/>
              </a:rPr>
              <a:t>Примарног нееп</a:t>
            </a:r>
            <a:r>
              <a:rPr b="0" lang="sr-CS" sz="2400" spc="-1" strike="noStrike">
                <a:solidFill>
                  <a:srgbClr val="7598d9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7598d9"/>
                </a:solidFill>
                <a:latin typeface="Arial"/>
                <a:ea typeface="Arial"/>
              </a:rPr>
              <a:t>телног порек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3600" indent="-2318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и, сарко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598d9"/>
                </a:solidFill>
                <a:latin typeface="Arial"/>
                <a:ea typeface="Arial"/>
              </a:rPr>
              <a:t>Секундарн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ПАРАТИРЕОИДНЕ ЖЛЕЗД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томи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и физиологиј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штита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жлез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дела болест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штита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жлез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паратиреои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паратиреои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5" name="Picture 4" descr="F:\slike predavanja\imagesLBE7ZE07.jpg"/>
          <p:cNvPicPr/>
          <p:nvPr/>
        </p:nvPicPr>
        <p:blipFill>
          <a:blip r:embed="rId1"/>
          <a:stretch/>
        </p:blipFill>
        <p:spPr>
          <a:xfrm>
            <a:off x="5410080" y="430056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Хиперкалциемиј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28240" y="12949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1" lang="sr-Latn-RS" sz="2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окована пореме</a:t>
            </a:r>
            <a:r>
              <a:rPr b="1" lang="sr-Latn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ајима пара</a:t>
            </a:r>
            <a:r>
              <a:rPr b="1" lang="sr-Latn-RS" sz="22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титасте </a:t>
            </a:r>
            <a:r>
              <a:rPr b="1" lang="sr-Latn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sr-Latn-RS" sz="2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д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Примарни хиперпаратиреоидиза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терапија литијум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фамилијарна хипокалциурична хиперкалциемиј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Arial"/>
              </a:rPr>
              <a:t>Малигнитет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Солидни тумор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хема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онколошке болест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Arial"/>
              </a:rPr>
              <a:t>Суфицит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1" lang="sr-Latn-R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Д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нто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к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грануломатозне болест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Arial"/>
              </a:rPr>
              <a:t>Убрзан метаболизам костију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ипертиреоз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Имобилиза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хипервитаминоз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Arial"/>
              </a:rPr>
              <a:t>Бубрежна слабост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70000"/>
              </a:lnSpc>
              <a:spcBef>
                <a:spcPts val="55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Секундарни хиперпаратиреоидиза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терапија алумињум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млечно-алкални синдром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ПРИМАРНИ ХИПЕРПАРАТИРЕОИДИЗАМ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304560" y="1676160"/>
            <a:ext cx="845820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07360" indent="-2073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стање хроничне хиперкалциемије која је резултат повећаног и неконтролисаног лучења ПТХ због хиперфункције једне или више ПТЖ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07360" indent="-2073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Етиологија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: аденом (81%), карцином (4%), хиперплазија ПТЖ  (спорадично или у оквиру МЕН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07360" indent="-207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линичка слика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80%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је асимптоматск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07360" indent="-207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Општи симптоми и симптоми ЦНС-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86000" indent="-20736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мор, депресија, конфузност, заборавност, емоционална нестабилност, депресија сомноленција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07360" indent="-20736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ГИТ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86000" indent="-20736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Губитак апетита, мршављење, мука, повраћање, улкусна болест, панкреатитис, опстипација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86000" indent="-20736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УГТ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86000" indent="-20736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епозити калцијума и уролитијаза (60-70% пацијената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86000" indent="-20736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олиурија, полидипсија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86000" indent="-20736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лкулоза уротракт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86000" indent="-207360">
              <a:lnSpc>
                <a:spcPct val="8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Опструкција уротракт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07360" indent="-2073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  <a:ea typeface="Arial"/>
              </a:rPr>
              <a:t>БОЛЕСТИ ШТИТАСТЕ ЖЛЕЗДЕ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05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морфологиј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генезија, аплазија, хипоплазија и ектоп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м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7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Дифузна струм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05040" indent="-180360">
              <a:lnSpc>
                <a:spcPct val="7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  <a:ea typeface="Arial"/>
              </a:rPr>
              <a:t>Нодозна струма (уни и полинодозна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Поремећаји функциј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иц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ипофункциј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Запаљењ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Акут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Субакутн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Хронична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CHVOSTEK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  <a:ea typeface="Arial"/>
              </a:rPr>
              <a:t>-ОВ ЗНАК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vostek-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a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познат и кa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iss-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један оd з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кoвa хипo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лцe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ч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т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ije, a рeф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k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јe аб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мал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j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лaц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фацијал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г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ерв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ntišek Chvoste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је чeшко-аустриj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л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ji je oп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o oвaj знak 1876. (независnо oд њeгa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han Wei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83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2" name="Picture 4" descr="F:\slike predavanja\images0AAI6E5I.jpg"/>
          <p:cNvPicPr/>
          <p:nvPr/>
        </p:nvPicPr>
        <p:blipFill>
          <a:blip r:embed="rId1"/>
          <a:stretch/>
        </p:blipFill>
        <p:spPr>
          <a:xfrm>
            <a:off x="6781680" y="46483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F:\slike predavanja\imagesRQ8J3U62.jpg"/>
          <p:cNvPicPr/>
          <p:nvPr/>
        </p:nvPicPr>
        <p:blipFill>
          <a:blip r:embed="rId2"/>
          <a:stretch/>
        </p:blipFill>
        <p:spPr>
          <a:xfrm>
            <a:off x="3657600" y="46483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СТРУМ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52280" y="1295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МА (гушавост) је увећање штитасте жлезд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Под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фуз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Нодуларна (уни или мултинодуларн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Ети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екти у биосинтези хормо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ефицит ј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паљења (акутна, субакутна и хроничн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умори штитасте жлезд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ДИФУЗНА СТРУМ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15238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фини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увећање штитасте жлезде у целини уз одсуство нодуса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аћена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нормал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функцијом штитасте жлезде (еутироидна, нетоксична или Струма дифуса симпл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аћена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дисфункц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штитасте жлезде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иреоидизмом (нпр. у 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оидитис хр. Х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имото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ерфункцијом (нпр. у М.Гравес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пидемиолог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око 10% популације, однос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ж:м=8: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о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Ендем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у&gt;10% становништва има струму,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демс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обично непознатог узрока)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9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3316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јава струм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пресивни ефекти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Трахеја (сув, надражајни кашаљ, диспнеја: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емберт-ов знак: погоршање диспнеје код подизања руку, стридор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Једњак (дисфагија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. Р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ренс (промуклост)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Плетора (компресија на вене врата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TRUMA DIFUSA SIMPLEX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0880" y="12949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Дијагноз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824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лед (инспекција и палпација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40960" indent="-167760">
              <a:lnSpc>
                <a:spcPct val="10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ма увећања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40960" indent="-167760">
              <a:lnSpc>
                <a:spcPct val="10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увећање се запажа само палпацијо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40960" indent="-167760">
              <a:lnSpc>
                <a:spcPct val="10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запажа се приликом забацивања глав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40960" indent="-167760">
              <a:lnSpc>
                <a:spcPct val="10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идљива при нормалном положају глав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40960" indent="-167760">
              <a:lnSpc>
                <a:spcPct val="10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велика струма видљива из даљине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824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Ултразвучни преглед (диф.дг. нодозне и дифузне струм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8240" indent="-2509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Т4, ТС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4" descr="F:\slike predavanja\3.jpg"/>
          <p:cNvPicPr/>
          <p:nvPr/>
        </p:nvPicPr>
        <p:blipFill>
          <a:blip r:embed="rId1"/>
          <a:stretch/>
        </p:blipFill>
        <p:spPr>
          <a:xfrm>
            <a:off x="4614840" y="5151600"/>
            <a:ext cx="2033640" cy="1523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F:\slike predavanja\imagesNVXBN9H8.jpg"/>
          <p:cNvPicPr/>
          <p:nvPr/>
        </p:nvPicPr>
        <p:blipFill>
          <a:blip r:embed="rId2"/>
          <a:stretch/>
        </p:blipFill>
        <p:spPr>
          <a:xfrm>
            <a:off x="6934320" y="5089680"/>
            <a:ext cx="1933560" cy="15397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F:\slike predavanja\images9IRLWSCQ.jpg"/>
          <p:cNvPicPr/>
          <p:nvPr/>
        </p:nvPicPr>
        <p:blipFill>
          <a:blip r:embed="rId3"/>
          <a:stretch/>
        </p:blipFill>
        <p:spPr>
          <a:xfrm>
            <a:off x="2743200" y="5151600"/>
            <a:ext cx="17049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6:05:40Z</dcterms:created>
  <dc:creator>Bill Gates</dc:creator>
  <dc:description/>
  <dc:language>en-US</dc:language>
  <cp:lastModifiedBy>Microsoft Office User</cp:lastModifiedBy>
  <dcterms:modified xsi:type="dcterms:W3CDTF">2023-02-07T12:00:40Z</dcterms:modified>
  <cp:revision>118</cp:revision>
  <dc:subject/>
  <dc:title>PATOLOŠKA FIZIOLOGIJA ENDOKRINOG SISTEMA</dc:title>
</cp:coreProperties>
</file>